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8A4-3394-4DD6-BA2F-D0A7E505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BE4-5823-4166-9F02-F028B761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0C6-4ABF-4FF8-B5D2-54BC1A29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BDB-B628-41F4-BE54-9348F7D2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5D3-5223-47E1-964F-D6409FA3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A1C-76CC-4381-A868-5B2981CF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997-CDC5-42C9-9C61-269700E1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171-BEA8-4821-A942-2F118B0C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45F-F74D-4925-9345-7358BEE0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B32-0050-4865-A55F-99EF340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776-C7FA-4297-9BAF-874B8437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BE8-7046-45DC-B44F-659C94E0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0D37D-6BE4-4744-8D3E-7E7DA46FB75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879480" y="1905120"/>
            <a:ext cx="73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ente: dr. Marco Crescenzi (Istituto Superiore di Sanità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63760" y="2843280"/>
            <a:ext cx="2617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l: 06499031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ail: marco.crescenzi@iss.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b: www.marcocrescenzi.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asellaDiTesto 3"/>
          <p:cNvSpPr/>
          <p:nvPr/>
        </p:nvSpPr>
        <p:spPr>
          <a:xfrm>
            <a:off x="484200" y="4857840"/>
            <a:ext cx="817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studenti possono contattarmi liberamente per ogni necessità didat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3" descr="Studenti 2.jpg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08:37:54Z</dcterms:created>
  <dc:creator>Marco Crescenzi</dc:creator>
  <dc:description/>
  <dc:language>en-US</dc:language>
  <cp:lastModifiedBy>Marco Crescenzi</cp:lastModifiedBy>
  <cp:lastPrinted>2014-10-14T09:59:06Z</cp:lastPrinted>
  <dcterms:modified xsi:type="dcterms:W3CDTF">2021-04-15T07:27:06Z</dcterms:modified>
  <cp:revision>42</cp:revision>
  <dc:subject/>
  <dc:title>Metodologia della ricerca scientifica  Attività a scelta, 3 CFU</dc:title>
</cp:coreProperties>
</file>